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FCF-4B09-423C-944A-BBC0B2BE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668-F9A0-4340-9F53-EEAA5B07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3EF-DCBB-496F-92C6-52EC4139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0C4-542B-4E1D-AE2D-2DB634DC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1C8F-73E5-4132-8E0A-CF849D0A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295C-708A-4601-9C51-29935DAE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B7C8-A86A-415A-BB31-3720C223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E7DC-5348-41C4-9D58-574A760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B960-54A7-4D2A-9D8F-31B2CBD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D632-1E8B-4691-BFC8-1DFFC668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DC2D-3E4F-4373-B267-7FB4115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622-69D7-4152-A6C8-929A5969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3578-9AA4-49C6-9079-E5096BDF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FC03-ECAC-4F57-9001-251E2C9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2B00-80D1-45D4-A7B8-5494F6DB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5C00-771E-4040-9B53-E7883054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DDD7-31AE-444F-842B-DBD03533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39F-7CBF-4391-B279-57320A91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FA1-EE80-4B11-BCF8-8891C89D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8F7-A3F1-417D-A02D-C5A8E432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AE8-964A-43B5-A889-2CFB6FB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130-3C33-410F-838C-C91789E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900-803A-46AB-BD93-701EEB7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537-C1A8-4B6D-BE6F-EA9B9C3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596-037E-47B6-BC31-73C1E97CD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9525-583C-4AE8-9CF8-C836BBA10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22°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autorização será conferida nas seguintes condições, além das demais constantes deste Códig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- o título poderá ser objeto de cessão ou transferência, desde que o cessionário satisfaça os requisitos legais exigidos. Os atos de cessão e transferência só terão validade depois de devidamente averbados no D.N.P.M.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 - é admitida a renúncia à autorização, sem prejuízo do cumprimento, pelo titular, das obrigações decorrentes deste Código, observado o disposto no inciso V deste artigo, parte final, tornando-se operante o efeito da extinção do título autorizativo na data da protocolização do instrumento de renúncia, com a desoneração da área, na forma do art. 26 deste Código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II - o prazo de validade da autorização não será inferior a um ano, nem superior a três anos, a critério do D.N.P.M., consideradas as características especiais da situação da área e da pesquisa mineral objetivada, admitida a sua prorrogação, sob as seguintes condiçõe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a prorrogação poderá ser concedida, tendo por base a avaliação do desenvolvimento dos trabalhos, conforme critérios estabelecidos em portaria do Diretor-Geral do D.N.P.M.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a prorrogação deverá ser requerida até sessenta dias antes de expirar-se o prazo da autorização vigente, devendo o competente requerimento ser instruído com um relatório dos trabalhos efetuados e justificativa do prosseguimento da pesquis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a prorrogação independe da expedição de novo alvará, contando-se o respectivo prazo a partir da data da publicação, no Diário Oficial da União, do despacho que a deferir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V - o titular da autorização responde, com exclusividade, pelos danos causados a terceiros, direta ou indiretamente decorrentes dos trabalhos de pesquisa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 - o titular da autorização fica obrigado a realizar os respectivos trabalhos de pesquisa, devendo submeter à aprovação do D.N.P.M., dentro do prazo de vigência do alvará, ou de sua renovação, relatório circunstanciado dos trabalhos, contendo os estudos geológicos e tecnológicos quantificativos da jazida e demonstrativos da exeqüibilidade técnico-econômica da lavra, elaborado sob a responsabilidade técnica de profissional legalmente habilitado. Excepcionalmente, poderá ser dispensada a apresentação do relatório, na hipótese de renúncia à autorização de que trata o inciso II deste artigo, conforme critérios fixados em portaria do Diretor-Geral do D.N.P.M., caso em que não se aplicará o disposto no § 1º deste artig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§ 1º. A não apresentação do relatório referido no inciso V deste artigo sujeita o titular à sanção de multa, calculada à razão de uma UFIR por hectare da área outorgada para pesquis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§ 2º. É admitida, em caráter excepcional, a extração de substâncias minerais em área titulada, antes da outorga da concessão de lavra, mediante prévia autorização do D.N.P.M., observada a legislação ambiental pertinente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4:54Z</dcterms:modified>
  <cp:revision>59</cp:revision>
  <dc:subject/>
  <dc:title>Apresentação do PowerPoint</dc:title>
</cp:coreProperties>
</file>